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429-83C2-4299-ADD6-A8A3D5B6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E67-A310-4788-B5E1-DB972C74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D2EEF-F687-4B0D-B416-4DEE477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34A01-5EAA-4108-A93F-FA45BD9E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528C1-D60B-4FD1-B5DA-1423B2B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E3F97-B83F-412D-9872-D967769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E3A71-084C-4659-BC78-EB143DA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10A0-D2E0-4B87-81EB-EA2C513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B0C7D-81F4-48C9-89ED-560C86A6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5A580-C0FE-416B-8142-24F4282E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D8854-0139-4749-9910-9C277E40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B179B-FC7F-4981-827D-1946F450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FCA-EBA7-4F1E-9E82-D62C4293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8F7C1-9876-4AC8-B5E3-9C84A5D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D6816-9648-48C6-B941-C6CC6C1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67E1-32BD-4D87-9BED-6731CE7D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D6C91-B491-4384-B3C9-B4C2948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DCF11-FBD9-4EDE-B51E-FF37B03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00D8-36EF-4363-9B96-09EF45AC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3B5F0-8C21-4B1E-809C-DC70AE4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ACB3D-37D7-4DC3-AA3C-69411ACA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CB38D-D085-402B-8C54-C0AA0387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06186-C8BA-4805-81BF-E2022C09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124-7AAC-48BB-8BF1-AB8D5293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223AF-4345-4BEA-8DD9-7CCFABEC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AA37A-D3AF-40FF-8FE2-8A41D04C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4B09D-5022-45B5-98C0-DB7AC8B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636D7-DF8D-4F61-B0EA-62D6216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9A1DF-3D4C-4E9F-BF56-81173831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25AF8-0C8C-442C-ADCF-128087AE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49B46-FA36-46CC-A5DD-4DBD9C6E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5B1E4-48EB-4F11-ADD9-8D51FB9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8CC5F-0170-498B-B441-C6868CF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6E2BB-84D9-40D2-8E39-0224955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1F25-EB45-490F-A054-AAA6DE89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011B5-0097-4F19-A96D-BA4CEC40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4A4C-2A74-4475-8A2A-4FB18FC8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D3DC-ADD3-456F-AA80-DA6C607A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5B71D-A499-4AA7-A6E4-81368C28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30216-1899-4F4A-A54D-D0208C7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9D6E6-354F-4FF9-AD9D-496F9912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4E466-E9D3-43D5-9119-AEC640A5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6D8F5-7CA5-4AEE-A934-90A78CD4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FBE28-1123-47F8-B44F-64738063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B2EE8-7F9E-4D89-BDD5-13B77BB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2846-7A88-418E-BEC1-77B7B38A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163D9-282F-4579-B850-7C7C704D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4904C-4092-4E78-A2C1-76E733E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081A8-D88F-47D4-BF67-2278321E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46439-1ED0-4F67-BA2F-0CBBA6B3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835A3-87B9-42B6-8782-A90E68C2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489CA-475D-4EEA-BA3C-94CEA88A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C6F5E-822F-4BB3-8084-AD59B10F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0A245-16A0-4A80-9868-618EE513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7EBAA-6603-42B7-8168-2F860380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F7BB7-58AB-40CC-95B4-06A7623D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5E5-3967-4263-81A4-AC65EAFB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B7E5C-1A83-49F2-A3B9-D9E7987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36960-9A01-4F4A-989E-7FAE202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7AE82-F9FD-495B-8256-538A371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99923-DCC8-49F9-BDE8-C822BC7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12D1B-1565-4482-A051-6C6ECDA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CAF3A-3054-4E5B-9B9A-13773AF1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07610-904F-4950-A193-C40A403F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A71EA-B8ED-4320-942D-0C0FF680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C6A86-78B2-4168-880B-A4F8F6F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25F0E-0136-4A17-A3B8-57CDB356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F1F7-4EB5-4337-BE72-A84B2022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FBEF2-F66B-4D2D-A40F-736269E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06637-9B2F-4785-B01C-E8F0AD06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02665-07A4-4B6D-9038-644D3D73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EB912-5630-4663-9F12-64D7155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1AA64-6535-41AB-A487-82E6F52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CCB7F-FE3E-4303-B866-4997DBC0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C7AD3-BEFF-46CA-8B23-446A4B3F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E1998-9AE9-4C56-BAA8-8687B697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D390A-FC66-49EF-985E-ABEFB02F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76841-C298-42F7-84A8-E890A515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6922-073F-4CE7-8AF7-D3067400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5D675-31E3-437E-94C4-2B9B4387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E97FE-21C9-494E-90CD-7DEFE5CE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2FD54-4C30-4CD0-9FB2-E9701EC7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084EA-DA0F-4A2D-B5E2-75FA01C1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922A7-26BA-47ED-8507-2443A4B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CAAF7-CBFF-402F-8DEC-EA3A74D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F389D-CB85-4318-90D4-6593FB1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B1A05-639B-4AA4-86ED-F4CBE7E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F1493-FEC4-4AD8-92F6-BE90FC56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C6C73-6438-4093-981C-A4A118DA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47BF-DA86-45F3-A3A5-4464BC44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1246E-639B-49BF-9A0E-50F71FB8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B98B1-3F86-4B5C-8C95-C0EC569D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786D2-F458-4E6F-A09E-0B30059F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BEBBE-6C6A-44B0-8BDE-A3A2FC91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EF579-2D2F-43FB-AC11-623D539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8A3BE-8071-4203-BF85-2D6DF12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9D007-0389-4D10-84DC-5EE34431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C8B6C-C747-457C-87D5-1438B67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1FB84D-8033-4968-861C-EF0475D1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DA7B6-A46A-4231-8FE3-EBBD716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2ADB-B411-4C36-9261-385D20BF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2E18E-26CD-416A-A03A-F7C92A12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FBDE0-5BE3-4051-B31E-2CC4F492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97495-D5B3-4A8D-85C6-3FB4D77E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76892-A952-4DA0-A591-BCF5378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AC7BE-0FC0-4B54-9875-B811966B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9A2BC-DF25-4173-B513-2D4DCF5C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F703F-F554-4ED7-994C-1E404331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5994F-5402-41B4-8EB5-B857ED4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1DA6B-2A48-486A-8999-E7E4073B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62501-D177-4AF6-B540-AA13AFC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987-22EF-43C4-BD4C-D008B7E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8656-CAC6-45E4-BFF4-15A75F3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C7D6B-51B0-4D1B-A241-C1D6788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7E096-6E5D-400F-8BC5-B5754C8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5BC5E-4D59-4EBA-B55E-0F6B1F0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75CAC-B793-4F75-88AF-2D2F4B94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6478D-2A23-48E5-98A5-FC5826A6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298CD5-C755-4E22-917C-6C2AED5A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ED8FB-B063-45B1-A877-D2A06A31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71618-EBCB-4D80-9E08-99CF2CB5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242F39-34B2-461E-BCE8-C57B6DFE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41C068-D843-4A64-93BB-10E509BF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0095-6558-4260-895E-F69F006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C6800-07B3-44CC-B9F8-903060C1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ABE88-C66F-4BC2-A061-7A17570F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5227B-874B-4D18-AF01-1EF8B74F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6305B-25A4-41DE-9A89-B58C2CB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A83EB-C08D-46D5-AC1F-48C1E945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7A582-36A1-4A21-B654-F8D667D1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FBBB0-B121-4300-8D9F-856F6F74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8FFE6-F61C-4A05-89BD-86E733E4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1DC9D-7F25-4DFD-890A-3321592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262CC-446A-4969-96FB-882A4573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719F-A893-48B1-AB12-E1CF300B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3180BA-2FE1-4EF7-9DC5-D10E7C3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1ADCC-AF10-4692-AEA7-DC18CA08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8137F-8D2D-467B-9DA4-A4120703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DC59F-0B03-4458-AF7F-A12D006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A9037-A37F-4EA6-BB85-C1233AB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870F4F-C6E8-4DAA-907B-5133B7BE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62DA1-14D7-422B-B6F2-C2978F64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A6830-169E-47C6-B1B1-6D2FED2A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59A71-DDE4-4CAC-AB47-675C8CBE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0EE73-D150-4BBE-A69F-A6F2325C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FA87-E02A-41B7-A304-A627AC37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646C9-E3B1-4F64-A669-7ED62EEF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28299-084B-439C-A426-F5EBE4C8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7BEB0-C31F-43DD-817F-E028B02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DF923-4AE1-4D37-A47B-22602D9E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A2428-F6B4-4F93-B074-6A0B7B74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01147-9951-40D5-8D4E-5DD8136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722A8-FFAC-4034-ABCE-6DF423B8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D5FC19-D512-41FB-A104-4BAC9D0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C70A8-F65D-4F91-A0FD-B8BB8DE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F6857-9C51-447A-A504-CF9C2322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E19C-3AD5-4217-AA02-6C3D44EA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CD70C-07DA-4FE1-BD42-9FB995A1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87E692-58F2-4D2E-B9BE-6A72B15C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08976-F363-44F2-B883-39E906BC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BB1FB-05A3-4E3E-8C60-3AEB4F78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C037F-443F-4697-BA9B-E1B548E8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182334-02EE-4954-A477-B169FDB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0A248-96C1-4945-AA3D-E71EBBA0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D8CDD-D716-47A6-93B1-03F1C6CF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8C246-30EF-47C9-952C-B017EA3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70F0E-31D7-4294-81D4-7E1DA82D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E91A-CEF9-4E28-B063-2823CA85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76ED2-E253-4EC5-8084-3EF163DB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FF9E2-3C08-496C-87CB-8854411B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64447-D5B8-4489-8453-2461B40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D844E-B70B-4A35-9CF1-2528317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CA05F-981D-4C30-8027-BF27D561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02E932-345A-4AFB-AC09-18E90AD1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2BFA9E-09CC-4DB4-A15A-C8A35C0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DAA447-C944-48D2-9B2B-1E9AF29A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6C767-2EA7-43A4-A0E3-C392B5F0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04B7F-7CC5-4818-AF3B-2769DB7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F0FC-0DFF-4714-8F06-6F013C91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091DAA-EF32-4A28-B78B-21430E6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3EDD56-EFBA-453C-B290-D88BE27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507F9-6008-4E34-8715-BE353A8D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D1B282-96E0-474B-9ED4-5E036134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CA581-1D1B-40FF-84FC-7B67D956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A43216-999D-43EA-A5A6-EAE08642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EEEFF-6433-4946-B4B5-D8796FB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D8B459-7C80-4F06-9416-97BEAF4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427F1D-26C6-4341-82B1-722B6093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A555A2-87EF-42B8-9171-09DD0990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27AD-4671-46E6-ABAE-EE7F1FCD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09BBE5-7973-48EF-9369-379F6B24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CB9CD-9B8E-44C2-BC14-741F3F39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EF9E06-8522-4496-ACDC-61C247D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11485-E9D9-4DEF-A7D7-0BF0FB6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E9E007-C742-4362-B8CC-96E51A96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36AF77-85A6-410D-945F-F491E5DE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90F2B2-E4A6-4898-81D5-C0523434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F11D-E6E9-4E6F-8F55-8D7A9AF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13A1-234C-4CB1-92C8-437AAF8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1A6-0AD0-4AD1-B4FE-21AF5E9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E03D-10CC-413A-89B6-2A430E58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9059-9616-427E-BF38-14401CC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B1B9-2C5E-46D7-890B-D2E7C6A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E6EA-5D7A-4E3D-9BF7-2750766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929E-40FB-4195-BDC1-8E7BF469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D929-AE91-4C52-ACDE-2EC86043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02AF-A704-41A7-B2D5-4F7EAD93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8C53-6C70-4556-8BDB-236ABD74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ED5E-E0D1-4646-A282-69EB7325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52B8-949F-4C48-A1E3-CE26D3C3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E96-94FC-4376-A3C8-01BB827F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6573-5CB7-4885-8B6D-ABF8285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B75A8-E843-477A-A20B-D581797D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5E30-0B18-467A-9B4C-771415EB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732F-6006-403C-8242-6F78A4E1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12C1-63A7-4997-807C-0919AF2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44782-86DF-4A14-BAC9-F39BD15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E2571-A3F4-4092-8C11-0974B47A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48A3-2447-4E1B-8A6B-A39B66CE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5E49D-CA52-4DBB-8ED3-EA3BF007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340A-E28F-4201-9BF5-6F562AF9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83B-B971-45DE-AD16-A42ACB3E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859A-0E07-4166-8D51-EA97AD3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B1D29-00FA-466C-AB0E-15BC7AA7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1D325-0315-4D68-B372-F11DE458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BD64F-F229-4EAE-AA92-733D17DD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9E6E-77E7-4C42-84B1-B4A1299D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769D0-7674-4C9C-A8F8-0D1C9B5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C63DD-A2AB-4904-84E8-0ACEC49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4944-FDD1-4FCB-9119-4E051A5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C6F2-658D-42F5-ADB8-476F1813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B621-BD8A-46D9-90A5-E327C91E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A1F-ECD6-4AA3-8E80-FAB752EC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F09E-335E-4BC9-B844-BCFBC593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2667-579F-4653-8EB6-87EBA5C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4B4A-90FA-46A7-895D-8213F780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E234-A4FE-4725-B2EE-67673B0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69CB3-6566-4345-9AAE-E8EC2E0A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A509-53B6-4147-9760-92358F06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1ADE8-72D3-4716-9AD7-C699F67A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9A48F-5714-4465-B9F0-610483B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FAC7-E655-47F2-BDC3-AD9D047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9F31C-3D89-4995-82FA-692B5D8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47B-B1B8-48B1-921E-8C122162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1932-FD78-4DCA-AE33-6885C33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8DA7-E131-47F1-8591-F30FFFF6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DC86-811B-4E8B-A9D4-08B917F8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219B9-326E-4555-B212-8F0E3C8C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0EF1-B635-44D3-915C-D7E3E7E4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0332C-564A-4062-BD5C-5484F667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F2452-C897-4AD5-9974-CCE9FE1E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8D27-2535-4EE7-9ACB-2DD89E3D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D54C7-1930-42B2-9D76-4FC5627A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08E61-2B22-41B9-A3C9-97D64017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A2D-B317-4093-A7D7-FBC62C2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02F8-B753-4259-8279-E9A2516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637FE-6A00-4741-9773-1536AD0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E492-B67E-48E7-A46E-B01A2D9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87AE-8878-46DD-8E5C-B6212934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B228-8A53-463C-B265-0257DDC0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E48E-CFF9-4A0A-9374-365D9175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ED1C-4677-4A27-9532-EB46A4C4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4C2DA-9186-493C-99EE-F42E6D75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8AD9-AB6A-4BE3-A4EF-2C2689B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A60C-64D9-41B8-8767-18372B9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47C-CFD7-41F1-B499-E2DF5BB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FA12-425C-4CA8-9CEC-DE81FE8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08A87-8A08-43CE-9D84-CF4F570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DF9CE-02D4-4210-8EC1-8D1FF62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8A4CD-01C1-470F-9FAB-29B2073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32C2-ED64-4345-BF6C-9C77FEC9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0A000-AF18-42F6-A40D-7BBA4AAA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AE815-6D44-4C70-9507-8BE29BE2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979CA-54A3-4ED2-86A5-9C42B6E7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84223-0C76-4779-8BF2-071664A2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4473-8244-4F55-8650-0381CECA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5447-6728-408A-8057-C77B13C10B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A0B6-53BA-45EC-9454-3BEDD3964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55E-8E7F-4E50-900F-158663E4CA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3FE-7309-4153-A0F4-C2C34EC186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3F90-ECC6-41A8-9846-9CE830520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A6D3-CDB2-43D0-AD05-DAB8498B4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7204-15C7-4CFE-A1C6-8A73FD4FC5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4F2-8BF2-457D-8F5F-09443B9F0E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0C61-8685-4504-A936-258A45659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8CE-9E8B-45CB-86EA-A72468738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C4D4-A8B4-4F3A-BA9D-FAF5669F4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A7C-8607-46A7-82C1-74ADB9874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53FD-5932-4405-9329-7DEEBA057E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2E48-17D9-468D-939B-8F4189D9E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3A37-05E5-4EFF-9D8D-8E5BCEE03C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91C4-200A-4A6B-9265-DCDF296A8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E6F3-9467-494D-884C-51206DDCA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716-133F-4085-875E-590B00AF8D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606D-C92F-43B2-8211-BEDCECDA2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920-0F03-4C3E-9A33-FF22947CF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860-1175-4256-A841-DA7CD5737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5D04-1A5C-4B8D-96CB-3DD3FBA48D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F28-6600-4E9F-9FD6-3B404B73C3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8ED-E824-4ABF-BE95-D34CFD2A2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70A-50A7-447F-8EFD-15BDFB8CD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17A-BFC9-4C30-A26C-EAE1B903A6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263-F329-4281-82C3-19762CF48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4698-22F7-4B55-9BEA-D65D55F6AB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03B-E61E-4F4A-86C9-1BB8D9293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A3F-F135-4550-AFD7-93D9FE1F3A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37A-76FC-4F67-AB6D-F7FCEAD47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34BB-3E4A-4D4B-980C-1AACF107A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138D-753A-4E38-A2F9-73612A01B5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18BE-B5F6-4F8F-8527-662D5966E8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709F-EA0B-4077-AB46-DE95BA2376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230-B7F2-412D-88DA-2F5C936901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BB1B-D037-48B5-8B57-90471E730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3927-1035-4AB5-AD37-302587367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392-E5DF-4B5F-8276-0F895A731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C347-2DE9-4CD8-B943-DAE9E32075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87ED-3CB6-4386-BE00-88F18B014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6693-EDCA-4AC7-AE15-D94A2F18C8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42880" y="3086280"/>
            <a:ext cx="6258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62000" y="1004760"/>
            <a:ext cx="8820000" cy="48484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76360" y="216216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843280" y="2565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492360" y="216216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932360" y="2565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581800" y="2162160"/>
            <a:ext cx="86328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6948360" y="2565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597800" y="216216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1835280" y="5300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2814480" y="4508640"/>
            <a:ext cx="1325880" cy="11523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5824440" y="5315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6804000" y="4522680"/>
            <a:ext cx="1325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224000" y="2604960"/>
            <a:ext cx="6696000" cy="16480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3132000" y="2832120"/>
            <a:ext cx="64800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3144960" y="32972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144960" y="37544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6600960" y="284004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6613560" y="330516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6613560" y="3762360"/>
            <a:ext cx="647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104760" y="1028880"/>
            <a:ext cx="8934480" cy="48006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396720" y="144612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295092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4356000" y="299736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4356000" y="335772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6"/>
          <a:stretch/>
        </p:blipFill>
        <p:spPr>
          <a:xfrm>
            <a:off x="4356000" y="371628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7"/>
          <a:stretch/>
        </p:blipFill>
        <p:spPr>
          <a:xfrm>
            <a:off x="4356000" y="4076640"/>
            <a:ext cx="2951280" cy="319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8"/>
          <a:stretch/>
        </p:blipFill>
        <p:spPr>
          <a:xfrm>
            <a:off x="4356000" y="450864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9"/>
          <a:stretch/>
        </p:blipFill>
        <p:spPr>
          <a:xfrm>
            <a:off x="5580000" y="53989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0"/>
          <a:stretch/>
        </p:blipFill>
        <p:spPr>
          <a:xfrm>
            <a:off x="6405480" y="5394240"/>
            <a:ext cx="53028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1"/>
          <a:stretch/>
        </p:blipFill>
        <p:spPr>
          <a:xfrm>
            <a:off x="8317080" y="2492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2"/>
          <a:stretch/>
        </p:blipFill>
        <p:spPr>
          <a:xfrm>
            <a:off x="8317080" y="287820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3"/>
          <a:stretch/>
        </p:blipFill>
        <p:spPr>
          <a:xfrm>
            <a:off x="8317080" y="328464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4"/>
          <a:stretch/>
        </p:blipFill>
        <p:spPr>
          <a:xfrm>
            <a:off x="8244000" y="371628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5"/>
          <a:stretch/>
        </p:blipFill>
        <p:spPr>
          <a:xfrm>
            <a:off x="8244000" y="41497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6"/>
          <a:stretch/>
        </p:blipFill>
        <p:spPr>
          <a:xfrm>
            <a:off x="8317080" y="4437000"/>
            <a:ext cx="502920" cy="319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7"/>
          <a:stretch/>
        </p:blipFill>
        <p:spPr>
          <a:xfrm>
            <a:off x="8640720" y="4869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8"/>
          <a:stretch/>
        </p:blipFill>
        <p:spPr>
          <a:xfrm>
            <a:off x="8602560" y="5288040"/>
            <a:ext cx="50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20:0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